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CB9A-8C03-46CB-AF6C-2D23D9F0D22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C65A-E68E-4C78-B7E3-EF2F433B679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8597-816E-4B81-B7D5-A1C864EA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ABD9-AD30-4669-AFBA-06F46DBA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DDC0-4FCF-4D6C-B4FD-D822D77A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D6D8-31B7-4AC0-90A6-2B63F748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E868-2941-4F55-8E15-5CA3D951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2B6E-1A67-463A-A475-EDDAC19C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1E7E-3963-43C2-A7E1-C0B463BD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64F1-D6D1-40D9-A5EE-6829A11C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F68D-4B16-4D52-841F-FDEF6993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AAA2-AFD6-49A3-881A-1BE2AF75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415E-B98A-465C-8244-234B1E17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A4EE-065C-4A88-B7D8-2D2FE844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28D5-BC6A-4A92-A547-3B3AC4EB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9124-BEC9-4CE9-9534-0749C5E6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083E-2A16-4A36-900C-68070F86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F450-D5A6-4E9F-ADCF-E304A89A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94A2-19FA-4680-92F2-41F66861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3C140-91C0-49C4-9CDF-4E343D59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76CEC-5F84-477B-B4A5-E78B2347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789BC-4BD8-43E0-8E77-1998A4F5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680DD-944E-464E-B15A-C97825ED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F10EC-9B20-47A8-BE02-CB5936EB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4D96-7E21-45CC-8CB7-4FBFD05D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977BE-4DD3-4DD7-B320-CFC38CF2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61973-C2C8-4D87-9DB8-3161E72B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B6171-CF5F-4767-A5BF-1359C092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B3771-2FE1-48A1-A3FD-BF0C87C4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9DAAD-51C0-4976-95D1-69ABE0FF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FA540-83B6-406B-8B1F-F3A78FEC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A09C1-7675-4318-9974-54D4D01A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55746-8129-4BB9-9A9E-6A685BE3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B16F5-43CB-481D-8CA7-5D29FD2C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9F4C6-77B9-4BF8-A98B-89842D1F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35EA-FD88-4014-A30A-89E4AF4F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B2456-AF42-449B-80F8-7389064F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2E1C2-16BB-436E-97CB-F58DD2DF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AC02B-7159-4992-8125-A2729A80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CBCBD-9834-404C-9CFE-8005C495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DABCB-B729-4F9E-8A70-783CE8F5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C9F86-1FF3-4EB4-9081-F0D20298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C552B-184B-4AA3-AC9F-40DB7F24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220AC-DB03-49BD-9448-5D3DFBE8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80159-0F26-4060-856D-E6BFB21B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F569-A308-41F8-9F1A-CDE20A55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D26C-7189-4D3B-AC02-7405B07F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0F5-DD9A-41D9-BD58-001320F8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47E-7576-4E14-872E-CFCB4130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47C8-F10D-4F17-9534-89842A53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a liv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750D-5FF9-4973-9921-55A182A35FDA}" type="slidenum">
              <a:rPr b="0" lang="pt-B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a liv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a liv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a liv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a liv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E756-61D7-4D4B-BC25-0826C87368CE}" type="slidenum">
              <a:rPr b="0" lang="pt-B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a livre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a livre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a liv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a liv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a liv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a liv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B284-73B4-4079-8204-476436D10D64}" type="slidenum">
              <a:rPr b="0" lang="pt-B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tângulo com Único Canto Aparado e Arredondado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ângulo retângu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a livre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rma livre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1633-1FE3-4353-A670-3BC9A7E1A071}" type="slidenum">
              <a:rPr b="0" lang="pt-B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ítulo 1" descr=""/>
          <p:cNvPicPr/>
          <p:nvPr/>
        </p:nvPicPr>
        <p:blipFill>
          <a:blip r:embed="rId1"/>
          <a:stretch/>
        </p:blipFill>
        <p:spPr>
          <a:xfrm>
            <a:off x="487440" y="1255680"/>
            <a:ext cx="851040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45840" y="424764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onstantia"/>
              </a:rPr>
              <a:t>Andressa Carvalho Silva Oyama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onstantia"/>
              </a:rPr>
              <a:t>Disciplina: Tópicos Especiais de Linguística Aplicada: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onstantia"/>
              </a:rPr>
              <a:t>A formação do formador e do professor de língua estrangeira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onstantia"/>
              </a:rPr>
              <a:t>Docente: Profa. Dra. Maria Helena Vieira Abrahão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3840" y="7045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500" spc="-1" strike="noStrike">
                <a:solidFill>
                  <a:srgbClr val="04617b"/>
                </a:solidFill>
                <a:latin typeface="Calibri"/>
              </a:rPr>
              <a:t>Recursos alternativos de informaçã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Os professores mencionavam utilizar para sua formaçã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Listas de distribuição eletrônica de documento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Conferências profissionai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Site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Colega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Jornais (Journals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Cursos na universidad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Bibliotecas universitária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Bibliotecas públic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Retângulo de cantos arredondados 3"/>
          <p:cNvSpPr/>
          <p:nvPr/>
        </p:nvSpPr>
        <p:spPr>
          <a:xfrm>
            <a:off x="4857840" y="3714840"/>
            <a:ext cx="4000320" cy="2286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aixaDeTexto 4"/>
          <p:cNvSpPr/>
          <p:nvPr/>
        </p:nvSpPr>
        <p:spPr>
          <a:xfrm>
            <a:off x="5000760" y="3714840"/>
            <a:ext cx="3714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Constantia"/>
              </a:rPr>
              <a:t>Isso demonstra um engajamento; entretanto, a efetividade dessa busca pode estar comprometida se não estiver baseada em teorias sobre CALL, metodologia, princípios e práticas (p. 31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4617b"/>
                </a:solidFill>
                <a:latin typeface="Calibri"/>
              </a:rPr>
              <a:t>Resultados do </a:t>
            </a:r>
            <a:r>
              <a:rPr b="1" i="1" lang="pt-BR" sz="5000" spc="-1" strike="noStrike">
                <a:solidFill>
                  <a:srgbClr val="04617b"/>
                </a:solidFill>
                <a:latin typeface="Calibri"/>
              </a:rPr>
              <a:t>Focus grou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13840" y="1356840"/>
            <a:ext cx="8572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Os participantes reconhecem que a formação direcionada ao letramento digital ocorre nos programas de graduação, mas ainda é predominantemente feito de maneira informal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Constantia"/>
              </a:rPr>
              <a:t>Universal skills</a:t>
            </a: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: a aprendizagem de habilidades universais pode ajudar a preparar para as futuras gerações de </a:t>
            </a:r>
            <a:r>
              <a:rPr b="0" i="1" lang="pt-BR" sz="2200" spc="-1" strike="noStrike">
                <a:solidFill>
                  <a:srgbClr val="000000"/>
                </a:solidFill>
                <a:latin typeface="Constantia"/>
              </a:rPr>
              <a:t>software</a:t>
            </a: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, bem como ajudar a ter informação sobre o processo de tomada de decisão em um ambiente de CALL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Quanto mais familiarizados com as opções/ alternativas disponíveis para CALL, mais consciente será a decisão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Muitos também reconheceram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problema de contextualização: o que acontece no treinamento não é reforçado com suporte pedagógico e lingüístico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necessidade de aprendizagem autônoma e auto-direcionada: sugerem que criar condições que suportem a aprendizagem possa ser a solução mais efetiv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os projetos de CALL em grupo envolvendo várias sessões da faculdade: são frequentemente a abordagem que mais êxito tem para introduzir o CAL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4617b"/>
                </a:solidFill>
                <a:latin typeface="Calibri"/>
              </a:rPr>
              <a:t>Resultados das entrevist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85480" y="1285560"/>
            <a:ext cx="86439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Há uma relutância geral para uma faculdade se engajar no treinamento de CALL,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Todos os entrevistados se sentiam confiantes para usar a tecnologia para os seus próprios propósitos, mas se consideravam pouco informados sobre as práticas de CALL; nenhum desejava se engajar em um treinamento de CALL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utras explicações considerando um insuficiente treinamento em CALL  incluem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 algn="just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falta de financiamentos para expandir os programas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 algn="just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muitas outras questões que requerem atenção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 algn="just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 ampla crença de que aqueles que se interessam em CALL vão simplesmente "pegá-lo“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 autor adverte que se somente aqueles que estiverem muito motivados aprenderem sobre o CALL, é improvável que a prática do CALL se torne integrada com sucess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42920" y="142920"/>
          <a:ext cx="8858160" cy="6323040"/>
        </p:xfrm>
        <a:graphic>
          <a:graphicData uri="http://schemas.openxmlformats.org/drawingml/2006/table">
            <a:tbl>
              <a:tblPr/>
              <a:tblGrid>
                <a:gridCol w="1868400"/>
                <a:gridCol w="6989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ecomend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Descrição de “</a:t>
                      </a:r>
                      <a:r>
                        <a:rPr b="1" i="1" lang="pt-B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O que podemos fazer melhor?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volver um especialista em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sa pessoa deve ter ao menos uma fundamentação teórica de  tendência a essa áre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 CALL  deve ser área profissional de investigação  (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cu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ualquer introdução de treinamento em CALL deve ser integrada no programa como um tod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 não for possível ter cursos dedicados ao tema, os pedagógicos ou metodológicos devem ter o CALL como componen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volver todos os investi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É sensato envolver todos os investidores nas atividades de CALL, dando a eles informações sobre qualquer treinamento na comunidade local assim como nas conferências locais e nacionai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over incen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é-serviço: importância da instrução em CAL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m serviço: tempo livre, retorno financeiro e reconhecimen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nter um uso relevante do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ormadores em tecnologia podem perceber opções alternativas que melhor atendam às necessidades de professores em formação. Assim como o e-mail e a internet são atualmente familiares, todos educadores devem se familiarizar com atividades de CALL, tornando-se mais eficientes no seu entendimento da metodologia, prática, história e possibilidades de CALL. As decisões que influenciam o uso de CALL devem ser tomadas com base no entendimento da pedagogia e da tecnologia e de como elas se fundem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ítulo 1" descr=""/>
          <p:cNvPicPr/>
          <p:nvPr/>
        </p:nvPicPr>
        <p:blipFill>
          <a:blip r:embed="rId1"/>
          <a:stretch/>
        </p:blipFill>
        <p:spPr>
          <a:xfrm>
            <a:off x="55440" y="1311120"/>
            <a:ext cx="8253360" cy="14385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29920" y="2705040"/>
            <a:ext cx="797076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onstantia"/>
              </a:rPr>
              <a:t>Learning in context: Situating language teacher learning in CAL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Programas de formação de professores têm trabalhado com a premissa de que os professores conseguem aprender durante um curso de preparação o que eles precisam para ensinar bem, com oportunidades limitadas de prática durante o curso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O resultado é a confusão e o estresse que os professores sentem quando assumem o papel institucional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No entanto, pesquisas indicam que a aprendizagem do professor que acontece em contextos autênticos, nos quais o conhecimento é aplicado, pode reduzir essas tensões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ssim, a mudança e o crescimento do professor ocorrem por meio de uma aprendizagem que é situada em salas de aula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Para um efetivo de entendimento e crescimento do professor, a formação de professores em CALL deve acontecer de modo a conectar professores – estudantes - tecnologia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prendizagem situada: é eficaz para que pesquisadores e educadores discutam a eficácia da inovação de CALL na formação de professor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Aprendizagem do profess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85840" y="1213920"/>
            <a:ext cx="840096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Aprender a ensinar em aulas de língua e de conteúdo requer que os professores façam a transferência de conteúdo do curso para a configuração do contexto da escola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s professores estabelecem muito dos suas atitudes e crenças sobre ensino por meio de suas experiências relacionadas à escola, o que pode significar qu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o ensino é percebido com alguma coisa que o professor faz para os aprendizes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tecnologias não tem lugar em salas de aul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São essas crenças imutáveis que levam os estudantes, na formação de professores, a descartar a teoria e conteúdo proposto pelos programas de formação (p. 16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Para superar essas concepçõ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85840" y="1571760"/>
            <a:ext cx="84009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Os estudantes precisam de experiências alternativas que desafiem a validade desses conceitos ingênuos sobre ensinar e aprender na formação de professore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ara ajudar os professores, os programas de formação devem proporcionar o entendimento da relação existente entre o conhecimento acadêmico sobre o uso do computador e sua aplicação em variados contexto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Aprender a ensinar, nesse sentido, significa dar suporte para o uso do conteúdo,  ajudando os professores a transformar o seu conhecimento em atividade profission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Contextos situados e a aprendizagem sobre ensi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Kennedy (1999): a competência emerge da associação do conhecimento de teoria e de prática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Isso ocorre em contextos autênticos nos quais o conhecimento é realmente usado (p. 169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Aprender sobre ensinar (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expert knowledge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) mas não aprender a ensinar (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craft knowledge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) oferece um cenário fraco e não fortalece os professore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A aprendizagem situada é um modo de ajudar os professores em CALL a focar a investigação, a produzir e considerar alternativ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4617b"/>
                </a:solidFill>
                <a:latin typeface="Calibri"/>
              </a:rPr>
              <a:t>Situando o ensino de línguas onlin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14200" y="1285560"/>
            <a:ext cx="8715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Em casos nos quais não há a oportunidade de experiência em campo, a aprendizagem a distância pode ser uma escolha efetiva para conectar pessoa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Situar a aprendizagem em sala de aula de professores por meio de educação a distância oferece a oportunidade de que os professores - em pré-serviço e em serviç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coloquem novas idéias em prática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vejam como elas acontecem em configurações autênticas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testem novas concepções que  lhes são apresentadas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vejam o envolvimento dos estudantes e reflitam em sua prátic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 autor ressalta que o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software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 usado não é tão importante quanto os modos pelos quais ele suporta a aprendizagem. (17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ítulo 1" descr=""/>
          <p:cNvPicPr/>
          <p:nvPr/>
        </p:nvPicPr>
        <p:blipFill>
          <a:blip r:embed="rId1"/>
          <a:stretch/>
        </p:blipFill>
        <p:spPr>
          <a:xfrm>
            <a:off x="55440" y="1311120"/>
            <a:ext cx="8253360" cy="14385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onstantia"/>
              </a:rPr>
              <a:t>Assessin CAAL teacher Training: What we are doing and what could we do better?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1425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4617b"/>
                </a:solidFill>
                <a:latin typeface="Calibri"/>
              </a:rPr>
              <a:t>Avaliando a situação (</a:t>
            </a:r>
            <a:r>
              <a:rPr b="0" i="1" lang="pt-BR" sz="2800" spc="-1" strike="noStrike">
                <a:solidFill>
                  <a:srgbClr val="04617b"/>
                </a:solidFill>
                <a:latin typeface="Calibri"/>
              </a:rPr>
              <a:t>situatedness</a:t>
            </a:r>
            <a:r>
              <a:rPr b="0" lang="pt-BR" sz="2800" spc="-1" strike="noStrike">
                <a:solidFill>
                  <a:srgbClr val="04617b"/>
                </a:solidFill>
                <a:latin typeface="Calibri"/>
              </a:rPr>
              <a:t>) do CALL em cursos online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285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Herringon e Oliver (1995,1999,200): perguntas que demonstram a extensão na qual se encontram as oportunidades de aprendizagem em um curso de CALL (não se referem somente a contextos virtuais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 curs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fornece contexto autêntico que reflete o modo no qual o conhecimento  irá ser usado na vida real 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Fornece a criação de atividades autêntica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Fornece o acesso ao desempenho de especialistas e a modelamento do processo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Fornece papéis e perspectivas múltiplo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Promove a colaboração, a reflexão, e a articulação e fornece treinamento e suporte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Fornece a avaliação autêntica da aprendizagem na tarefa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Espaço Reservado para Conteúdo 7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241" name="Retângulo de cantos arredondados 2"/>
          <p:cNvSpPr/>
          <p:nvPr/>
        </p:nvSpPr>
        <p:spPr>
          <a:xfrm>
            <a:off x="5572080" y="0"/>
            <a:ext cx="3429000" cy="2786040"/>
          </a:xfrm>
          <a:prstGeom prst="roundRect">
            <a:avLst>
              <a:gd name="adj" fmla="val 16667"/>
            </a:avLst>
          </a:prstGeom>
          <a:solidFill>
            <a:srgbClr val="c9fafc"/>
          </a:solidFill>
          <a:ln w="255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CaixaDeTexto 4"/>
          <p:cNvSpPr/>
          <p:nvPr/>
        </p:nvSpPr>
        <p:spPr>
          <a:xfrm>
            <a:off x="5786280" y="357120"/>
            <a:ext cx="3071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1) há público autênt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2) há um grande número de fontes disponíve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3) há complex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4) há a possibilidade de colabor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tângulo de cantos arredondados 8"/>
          <p:cNvSpPr/>
          <p:nvPr/>
        </p:nvSpPr>
        <p:spPr>
          <a:xfrm>
            <a:off x="4857840" y="2571840"/>
            <a:ext cx="3857400" cy="2143080"/>
          </a:xfrm>
          <a:prstGeom prst="roundRect">
            <a:avLst>
              <a:gd name="adj" fmla="val 16667"/>
            </a:avLst>
          </a:prstGeom>
          <a:solidFill>
            <a:srgbClr val="c9fafc"/>
          </a:solidFill>
          <a:ln w="255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CaixaDeTexto 9"/>
          <p:cNvSpPr/>
          <p:nvPr/>
        </p:nvSpPr>
        <p:spPr>
          <a:xfrm>
            <a:off x="4929120" y="2643120"/>
            <a:ext cx="37148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-Os professores devem refletir sobre suas experiência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-Deve-se fomentar a integração de novos conhecimento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-Tarefas de aprendizagem usadas em situação de vida re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tângulo de cantos arredondados 10"/>
          <p:cNvSpPr/>
          <p:nvPr/>
        </p:nvSpPr>
        <p:spPr>
          <a:xfrm>
            <a:off x="1595520" y="2857680"/>
            <a:ext cx="3857400" cy="2500200"/>
          </a:xfrm>
          <a:prstGeom prst="roundRect">
            <a:avLst>
              <a:gd name="adj" fmla="val 16667"/>
            </a:avLst>
          </a:prstGeom>
          <a:solidFill>
            <a:srgbClr val="c9fafc"/>
          </a:solidFill>
          <a:ln w="255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aixaDeTexto 11"/>
          <p:cNvSpPr/>
          <p:nvPr/>
        </p:nvSpPr>
        <p:spPr>
          <a:xfrm>
            <a:off x="1595520" y="3000240"/>
            <a:ext cx="371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-Dependo do contexto, materiais e tópicos, os aprendizes podem alternar os papéis de aprendiz, instrutor e treinad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-Deve haver oportunidades para compartilhar histórias e/ou conhecimentos nos quais sejam especial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tângulo de cantos arredondados 12"/>
          <p:cNvSpPr/>
          <p:nvPr/>
        </p:nvSpPr>
        <p:spPr>
          <a:xfrm>
            <a:off x="0" y="3675240"/>
            <a:ext cx="3786120" cy="2825640"/>
          </a:xfrm>
          <a:prstGeom prst="roundRect">
            <a:avLst>
              <a:gd name="adj" fmla="val 16667"/>
            </a:avLst>
          </a:prstGeom>
          <a:solidFill>
            <a:srgbClr val="c9fafc"/>
          </a:solidFill>
          <a:ln w="255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CaixaDeTexto 13"/>
          <p:cNvSpPr/>
          <p:nvPr/>
        </p:nvSpPr>
        <p:spPr>
          <a:xfrm>
            <a:off x="0" y="3714840"/>
            <a:ext cx="3718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48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iscussão de modo a colaborar com os demais para o entendimento da tarefa e para completá-la segundo a própria perspectiv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s participantes assumem vários papéis no curs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 comunicação assíncrona (fórum) permite que todos possam partici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tângulo de cantos arredondados 14"/>
          <p:cNvSpPr/>
          <p:nvPr/>
        </p:nvSpPr>
        <p:spPr>
          <a:xfrm>
            <a:off x="357120" y="1214280"/>
            <a:ext cx="3429000" cy="2214720"/>
          </a:xfrm>
          <a:prstGeom prst="roundRect">
            <a:avLst>
              <a:gd name="adj" fmla="val 16667"/>
            </a:avLst>
          </a:prstGeom>
          <a:solidFill>
            <a:srgbClr val="c9fafc"/>
          </a:solidFill>
          <a:ln w="255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aixaDeTexto 15"/>
          <p:cNvSpPr/>
          <p:nvPr/>
        </p:nvSpPr>
        <p:spPr>
          <a:xfrm>
            <a:off x="357120" y="1406520"/>
            <a:ext cx="3357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48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ncorajamento à reflexão sobre as idéias próprias e sobre o contexto, idéias e resposta dos demai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ndaime: o instrutor ajuda os aprendizes a ajudarem a si mes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tângulo de cantos arredondados 16"/>
          <p:cNvSpPr/>
          <p:nvPr/>
        </p:nvSpPr>
        <p:spPr>
          <a:xfrm>
            <a:off x="3643200" y="1076400"/>
            <a:ext cx="4643640" cy="2928960"/>
          </a:xfrm>
          <a:prstGeom prst="roundRect">
            <a:avLst>
              <a:gd name="adj" fmla="val 16667"/>
            </a:avLst>
          </a:prstGeom>
          <a:solidFill>
            <a:srgbClr val="c9fafc"/>
          </a:solidFill>
          <a:ln w="25560">
            <a:solidFill>
              <a:srgbClr val="0b5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CaixaDeTexto 17"/>
          <p:cNvSpPr/>
          <p:nvPr/>
        </p:nvSpPr>
        <p:spPr>
          <a:xfrm>
            <a:off x="3786120" y="1071720"/>
            <a:ext cx="442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80" indent="111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portunidades para revisar a própria produ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111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valiar se a produção está ajustada à taref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111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resença de múltiplos indicadores da aprendizag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111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Valiabiidade e confiabilidade nos resulta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80" indent="111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ritérios variados para avaliar a pontuação na prod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Rubricas da produção no CAL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14200" y="1071720"/>
            <a:ext cx="8715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Participação em discussão (25 pontos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Reflexão (explicitar a reflexão e a integração de leituras, recursos e atividades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Qualidade dos comentários (contribuir para a discussão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Claridade e concisão dos comentários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Atitude (participação positiva, aceitar opiniões, respeitar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Quantidade de interação (e não só comentar isoladamente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Atividade da unidade final (40 pontos)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Escrever claramente (ser profissional, claro, direto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Seguir as instruções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Abrangência (</a:t>
            </a:r>
            <a:r>
              <a:rPr b="0" i="1" lang="pt-BR" sz="2000" spc="-1" strike="noStrike">
                <a:solidFill>
                  <a:srgbClr val="000000"/>
                </a:solidFill>
                <a:latin typeface="Constantia"/>
              </a:rPr>
              <a:t>completeness</a:t>
            </a: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Qualidade do conteúdo (refletir, argumentar, fundamentar-se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Integrar a unidade (referir-se às leituras, atividades e discussões do curso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O papel do instru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56760" y="1285560"/>
            <a:ext cx="8358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 papel do instrutor é crucial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 instrutor  deci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quando seguir adiante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quando voltar o curso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a seleção das informações importantes para levar a exemplos autênticos capazes de aumentar a experiência de aprendizagem situada. (p.17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 instrutor desempenha um importante papel para suporte, encorajamento, fornecimento de andaimes e para fomentar a reflexão dos estudantes.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Para acentuar a aprendizagem o CALL, os instrutores devem entender tanto as metas do processo quanto os métodos por meio dos quais a aprendizagem é situada. (p. 17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4617b"/>
                </a:solidFill>
                <a:latin typeface="Calibri"/>
              </a:rPr>
              <a:t>Casos (</a:t>
            </a:r>
            <a:r>
              <a:rPr b="1" i="1" lang="pt-BR" sz="3200" spc="-1" strike="noStrike">
                <a:solidFill>
                  <a:srgbClr val="04617b"/>
                </a:solidFill>
                <a:latin typeface="Calibri"/>
              </a:rPr>
              <a:t>cases</a:t>
            </a:r>
            <a:r>
              <a:rPr b="1" lang="pt-BR" sz="3200" spc="-1" strike="noStrike">
                <a:solidFill>
                  <a:srgbClr val="04617b"/>
                </a:solidFill>
                <a:latin typeface="Calibri"/>
              </a:rPr>
              <a:t>) - experiência de aprendizagem situad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85840" y="1213920"/>
            <a:ext cx="8400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 estudo mostrou que as discussões presencias facilitam a análise de caso mais aprofundada e meticulosa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Casos baseados na realidade podem estimular a discussão e ajudar os estudantes professores em formação a examinar seu conhecimento, experiências, atitudes e habilidades, sem acessar salas de aula física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Embora a tipicamente não tão rico como um contexto real de sala de aula, os casos podem ajudar os professores 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visualizar ações a partir de diferentes perspectivas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 aprender como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795240" indent="-214200" algn="just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nstantia"/>
              </a:rPr>
              <a:t>tomar decisões em contextos desordenados </a:t>
            </a:r>
            <a:r>
              <a:rPr b="0" i="1" lang="pt-BR" sz="1900" spc="-1" strike="noStrike">
                <a:solidFill>
                  <a:srgbClr val="000000"/>
                </a:solidFill>
                <a:latin typeface="Constantia"/>
              </a:rPr>
              <a:t>(messy)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795240" indent="-214200" algn="just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nstantia"/>
              </a:rPr>
              <a:t>como lidar com conflitos; e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795240" indent="-214200" algn="just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Constantia"/>
              </a:rPr>
              <a:t>como pensar sobre a conexão entre teoria e prática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just"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4617b"/>
                </a:solidFill>
                <a:latin typeface="Calibri"/>
              </a:rPr>
              <a:t>Casos (</a:t>
            </a:r>
            <a:r>
              <a:rPr b="0" i="1" lang="pt-BR" sz="5400" spc="-1" strike="noStrike">
                <a:solidFill>
                  <a:srgbClr val="04617b"/>
                </a:solidFill>
                <a:latin typeface="Calibri"/>
              </a:rPr>
              <a:t>cases</a:t>
            </a:r>
            <a:r>
              <a:rPr b="0" lang="pt-BR" sz="5400" spc="-1" strike="noStrike">
                <a:solidFill>
                  <a:srgbClr val="04617b"/>
                </a:solidFill>
                <a:latin typeface="Calibri"/>
              </a:rPr>
              <a:t>) de experiência de aprendizagem situada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assos gerais para analisar um caso (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case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Identificar as questõe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Considerar todas as perspectiva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Identificar conhecimento profissional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Projetar possíveis ações e suas consequência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Escolher a melhor açã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Essas decisões são tomadas em grupo, com base na reflexão sobre as possíveis razões para as preocupações das pessoas e em fatores que podem contribuir para uma solução, bem como na revisão da literatu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Conclusã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85840" y="1071720"/>
            <a:ext cx="85723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Dado que existem muitos modos de situar a aprendizagem, deve-se começar a explorar como aprender a ensinar pode ser mais apropriadamente situado em contextos culturais e tecnológicos e quais os efeitos que isso produz ao professor em pré-serviço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 mais importante: deve-se entender melhor como aprendizagem situada afeta o resultado do ensino e aprendizagem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s resultados de pesquisa nessas e outras questões podem ajudar a repensar e a reformular a teoria de aprendizagem situada, as aplicações práticas para a preparação do professor, e o desenvolvimento de programas para o uso da tecnologia por professores de língua.(p. 18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ítulo 1" descr=""/>
          <p:cNvPicPr/>
          <p:nvPr/>
        </p:nvPicPr>
        <p:blipFill>
          <a:blip r:embed="rId1"/>
          <a:stretch/>
        </p:blipFill>
        <p:spPr>
          <a:xfrm>
            <a:off x="55440" y="1311120"/>
            <a:ext cx="8564760" cy="143856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onstantia"/>
              </a:rPr>
              <a:t>Training CALL teachers onlin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A necessidade de cursos de CALL on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Cursos online/ a distância permitem aos que desejam se graduar continuar com seu emprego, reduzir o preço com gastos de viagem para a universidade, e ajustar a agenda de suas necessidades ao curso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O programas de formação de professores não estão imunes a oferecer o tais oportunidade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Tem sido imperativo para as instituições fornecer curso de formação de professores em formato a distância ou online, entre eles o CAL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3840" y="7045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4617b"/>
                </a:solidFill>
                <a:latin typeface="Calibri"/>
              </a:rPr>
              <a:t>Certificados em CALL e cursos em ensino/educação e tecnologia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13840" y="1934640"/>
            <a:ext cx="8643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Várias instituições oferecem certificados online ou um programa híbrido para cursos relacionados ao CALL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 artigo trata do curso de CALL para professores em formação em Saint Michael´s Colleg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Propõe examinar o conteúdo, a estrutura e a pedagogia do curso em termos os componentes que tenham assegurado seu sucesso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Interação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Colaboração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valiação baseada em tarefas e projeto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O uso de CALL em programas de línguas tem se tornado uma parte do currículo da formação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No entanto, o treinamento ainda continua sendo adquirido predominantemente de maneira informal, por meio de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workshops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, auto-aprimoramento, etc.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Isso sugere que os programas de preparação de professores de línguas têm negligenciado equipar seus graduados com o conhecimento prático e com as habilidades que eles precisam para atuar na sala de aula atual, que é tecnologicamente avançada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4617b"/>
                </a:solidFill>
                <a:latin typeface="Calibri"/>
              </a:rPr>
              <a:t>Premissa norteadora do CALL onlin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14200" y="968040"/>
            <a:ext cx="8715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Manter  a integridade da experiência de ensino e aprendizagem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As meta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fornecer uma experiência de formação de professores por meio de aprendizagem ativa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encontrar maneiras de criar uma comunidade de aprendizagem efetiva, envolvida e entusiasmada, que perpasse as fronteiras e limitações dos ambientes online ao mesmo tempo em que consegue obter vantagens dos recursos e ferramentas disponívei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30640" indent="-20376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modelar uma incorporação efetiva da tecnologia por meio de experiências palpáveis baseadas em tarefas e em projetos que permitam uma abordagem construtivis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128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4617b"/>
                </a:solidFill>
                <a:latin typeface="Calibri"/>
              </a:rPr>
              <a:t>Metas e objetivos do CALL onlin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42920" y="928440"/>
            <a:ext cx="8858160" cy="12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Os professores em formação devem desenvolver competências na tecnologia educacional aplicá-las em seu ambiente específico de ensino e tecnolog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Warschauer (2002):  4 letramentos da competência multi-facetada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3" name="Espaço Reservado para Conteúdo 5" descr=""/>
          <p:cNvPicPr/>
          <p:nvPr/>
        </p:nvPicPr>
        <p:blipFill>
          <a:blip r:embed="rId1"/>
          <a:stretch/>
        </p:blipFill>
        <p:spPr>
          <a:xfrm>
            <a:off x="566640" y="2120760"/>
            <a:ext cx="801072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3840" y="70452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4617b"/>
                </a:solidFill>
                <a:latin typeface="Calibri"/>
              </a:rPr>
              <a:t>Para satisfazer esses letramentos, espera-se que os participantes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14200" y="1714680"/>
            <a:ext cx="8715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onstantia"/>
              </a:rPr>
              <a:t>Estabeleçam uma comunidade de aprendizagem que ativamente co-construa conhecimentos, compartilhe pensamentos e experiências;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onstantia"/>
              </a:rPr>
              <a:t>Aprendam várias ferramentas tecnológicas, aplicativos e recursos para atividades de autoria e materiais para aula por meio de projetos e tarefas práticas;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onstantia"/>
              </a:rPr>
              <a:t>Revejam e a avaliem as várias mídias de tecnologia, ferramentas e recursos relacionados a sua efetividade para ensino e a aprendizagem de língua (discussões, críticas em pares e resenhas  críticas);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onstantia"/>
              </a:rPr>
              <a:t>Leiam sobre a história e a pesquisa em CALL, discutindo e observando suas influencias teóricas e práticas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4617b"/>
                </a:solidFill>
                <a:latin typeface="Calibri"/>
              </a:rPr>
              <a:t>Estrutura e conteúdo do CALL online</a:t>
            </a:r>
            <a:br>
              <a:rPr sz="4000"/>
            </a:br>
            <a:r>
              <a:rPr b="0" lang="pt-BR" sz="4000" spc="-1" strike="noStrike">
                <a:solidFill>
                  <a:srgbClr val="04617b"/>
                </a:solidFill>
                <a:latin typeface="Calibri"/>
              </a:rPr>
              <a:t>Componentes e desenho do curs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14280" y="1604880"/>
            <a:ext cx="84009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07680" indent="-2332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 conteúdo do curso é dividido em tópicos semanai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TAREFA E SERVIÇOS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s professores em formação aprendem sobre as ferramentas de tecnologia que guiam ao letramento em computadores e multimídia, de modo a criar uma ferramenta de ensino para integrar em aul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COMUNICAÇÃO E INTERAÇÃO: ocorre em 2 forma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comunicação assíncrona (e-mail, postagens, discussões sobre as leituras, ...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comunicação síncrona (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chats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 em grupo, arquivos de texto e áudio das sessões em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chat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572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4617b"/>
                </a:solidFill>
                <a:latin typeface="Calibri"/>
              </a:rPr>
              <a:t>Estrutura e conteúdo do CALL online</a:t>
            </a:r>
            <a:br>
              <a:rPr sz="3200"/>
            </a:br>
            <a:r>
              <a:rPr b="0" lang="pt-BR" sz="3200" spc="-1" strike="noStrike">
                <a:solidFill>
                  <a:srgbClr val="04617b"/>
                </a:solidFill>
                <a:latin typeface="Calibri"/>
              </a:rPr>
              <a:t>Componentes e desenho do curso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0920" y="1143000"/>
            <a:ext cx="8929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COLABORAÇÃ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É construída na estrutura do curso por meio de tarefas colaborativas.  Tinzmann et al. (1990): 4 elementos da colaboração centrada no aprendiz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nstantia"/>
              </a:rPr>
              <a:t>compartilhar conhecimentos entre aprendizes estudantes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nstantia"/>
              </a:rPr>
              <a:t>compartilhar autoridade entre aprendizes estudantes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nstantia"/>
              </a:rPr>
              <a:t>o professor com um mediador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nstantia"/>
              </a:rPr>
              <a:t>grupos heterogêneos de estudantes 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O projeto colaborativo satisfaz a 3 propósito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nstantia"/>
              </a:rPr>
              <a:t>permite aos futuros professores colocar em prática as ferramentas e outras habilidades da tecnologia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nstantia"/>
              </a:rPr>
              <a:t>fornece aos professores uma ferramenta de ensino que eles podem usar em suas salas de aula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nstantia"/>
              </a:rPr>
              <a:t>mantém o foco nos aprendiz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Retângulo de cantos arredondados 3"/>
          <p:cNvSpPr/>
          <p:nvPr/>
        </p:nvSpPr>
        <p:spPr>
          <a:xfrm>
            <a:off x="274680" y="5126040"/>
            <a:ext cx="8661240" cy="1143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aixaDeTexto 4"/>
          <p:cNvSpPr/>
          <p:nvPr/>
        </p:nvSpPr>
        <p:spPr>
          <a:xfrm>
            <a:off x="500040" y="5137200"/>
            <a:ext cx="828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s tarefas colaborativas em cursos online viabilizam o desenvolvimento de habilidades de pensamento crítico, co-criação de conhecimento e significado, reflexão e aprendizagem transformativ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4617b"/>
                </a:solidFill>
                <a:latin typeface="Calibri"/>
              </a:rPr>
              <a:t>Estrutura e conteúdo do CALL online</a:t>
            </a:r>
            <a:br>
              <a:rPr sz="4000"/>
            </a:br>
            <a:r>
              <a:rPr b="0" lang="pt-BR" sz="4000" spc="-1" strike="noStrike">
                <a:solidFill>
                  <a:srgbClr val="04617b"/>
                </a:solidFill>
                <a:latin typeface="Calibri"/>
              </a:rPr>
              <a:t>Componentes e desenho do curs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85840" y="1747800"/>
            <a:ext cx="84009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AVALIAÇÃO BASEADA NO PROJETO DO E NA TAREF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Parte do curso (40%) dedicada ao cumprimento de tarefas interativas e colaborativas nas quais os aprendizes respondem às postagens e fornecem o retorno em relação ao trabalho do outro (avaliação centrada no aprendiz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s aprendizes fazem ajustes aos seus projetos com base nas revisões em pares e nos comentários do instrutor (avaliação formal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Revisão analítica de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sites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 e de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softwares 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e a construção de projetos de curto e longo prazo (60%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Espaço Reservado para Conteúdo 4" descr=""/>
          <p:cNvPicPr/>
          <p:nvPr/>
        </p:nvPicPr>
        <p:blipFill>
          <a:blip r:embed="rId1"/>
          <a:stretch/>
        </p:blipFill>
        <p:spPr>
          <a:xfrm>
            <a:off x="268200" y="1341360"/>
            <a:ext cx="8667720" cy="53215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4617b"/>
                </a:solidFill>
                <a:latin typeface="Calibri"/>
              </a:rPr>
              <a:t>Formas de fator humano no CALL onlin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Realização das metas do curso segundo os aprendiz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85480" y="1934640"/>
            <a:ext cx="8643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s alunos se sentiram desafiados, surpresos e mais ativo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Alguns chegaram a comentar que produziam muito mais nos cursos online do que nas classes "normais"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 poder de ensinar é repassado aos aprendizes, o que cria uma experiência com ferramentas de comunicação mais efetiva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Houve o desenvolvimento 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repertório de abordagens e teorias pedagógicas de CALL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habilidade de pensar sobre CALL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estratégias técnicas para resolver problemas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recursos para ensinar e aprender em CALL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4617b"/>
                </a:solidFill>
                <a:latin typeface="Calibri"/>
              </a:rPr>
              <a:t>Desafios para o ensino do CALL onlin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Empreendimentos na aprendizagem a distância misturam efeitos colaterais variados, principalmente pela falta de contato visual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Agendar eventos em tempo real tal como conferências em grupo foi difícil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Além disso, alguns professores em formação sentiram dificuldade em relação a conciliar trabalho e CALL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roblemas técnicos também foram desaf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Lições aprendid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142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A qualidade da interação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discussões feitas de modo assíncrono geram maior extensão e profundidade nas discussões; e aprendizes mais tímidos se tornaram ativ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A presença e a personalidade do instruto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Apesar da falta de contato visual, a personalidade e a presença do instrutor permeia o curso pelo modo no qual ele é desenhado e desenvolvido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A habilidade organizacional do professor que desenha o curso são refletidas na estrutura e no fluxo do curso, bem como no modo como ocorre a interação e em como o retorno é dad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Objetivo do estu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O estudo usa um mapeamento online para investigar  qual tem sido a extensão da incorporação do CALL como um componente nos programas de formação de professores, bem como a satisfação daqueles a recebem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erguntas de pesquis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Qual é o nível de satisfação dos professores em relação à formação que recebem em CALL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 que poderia ser feito para preparar mais apropriadamente os professores em relação ao uso de CALL em sua profissão? (p.2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Título 1" descr=""/>
          <p:cNvPicPr/>
          <p:nvPr/>
        </p:nvPicPr>
        <p:blipFill>
          <a:blip r:embed="rId1"/>
          <a:stretch/>
        </p:blipFill>
        <p:spPr>
          <a:xfrm>
            <a:off x="55440" y="1311120"/>
            <a:ext cx="8253360" cy="14385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onstantia"/>
              </a:rPr>
              <a:t>Developing computer competencies for pre-service language teacher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Introduçã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Os estudantes de hoje são mais diversos cultura, religiosa e linguisticamente em relação a anos atrá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ara dar conta dessa diferenças, o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Quebec Ministry of Education (MEQ) 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ropôs uma abordagem sócio-construtivista para seu currículo, na qual os estudantes são responsáveis pela própria aprendizagem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apel do professor: ao invés de ser um transmissor de conhecimento, é o de guiar os estudantes na sua aquisição de uma segunda língu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14200" y="533520"/>
            <a:ext cx="8715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Essas mudanças requerem qu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s professores e modifiquem seus modos de ensinar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s professores desenvolvam novas competências para o novo currículo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a instituição modifique programas de formação de professor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 novo programa de treinamento propõe 20 novas competências (uma delas foca a tecnologia em sala de aula) com a meta de desenvolver a habilidade futura nos professores de se adaptar a qualquer situação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s professores devem se tornar competentes para usar a tecnologia como a ferramenta para desenvolver habilidades de pensamento lógico e crítico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4617b"/>
                </a:solidFill>
                <a:latin typeface="Calibri"/>
              </a:rPr>
              <a:t>O propósito do estudo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determinar se um curso de tecnologia em um programa de quatro anos foi suficiente para desenvolver a competência tecnológica em professores em pré-serviço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examinar se os professores em pré-serviço, após o curso sobre tecnologia em sala de aula, possuem atitudes positivas em relação à tecnologia nas escolas de modo a integrar a tecnologia em suas aul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004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Fundamentaçã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5680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nstantia"/>
              </a:rPr>
              <a:t>Competências para usar tecnologias em sala de aula - Desjardins, Lacasse e Bélair (2001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1" name="Espaço Reservado para Conteúdo 7" descr=""/>
          <p:cNvPicPr/>
          <p:nvPr/>
        </p:nvPicPr>
        <p:blipFill>
          <a:blip r:embed="rId1"/>
          <a:stretch/>
        </p:blipFill>
        <p:spPr>
          <a:xfrm>
            <a:off x="281160" y="1316160"/>
            <a:ext cx="85089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Context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14200" y="1285920"/>
            <a:ext cx="8715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nstantia"/>
              </a:rPr>
              <a:t>Programa exige 120 créditos: 90 para cursos teóricos e 30 para prática de ensino em sala de aula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nstantia"/>
              </a:rPr>
              <a:t>O programa é parte do departamento de Lingüística e de Ensino de Língua e foi feito pelos estudantes durante seu último módulo do curso em laboratório de computadores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nstantia"/>
              </a:rPr>
              <a:t>O conteúdo do curso foi dividido em dois componente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A primeira da aula: desenvolvimento das competências para integração no computador na sala de aula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A segunda parte: desenvolvimento da competência tecnológic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Pesquis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85480" y="1642680"/>
            <a:ext cx="8443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Foi desenvolvido um projeto para verificar se a prática corrente do curso de tecnologia no programa era de fato suficiente para desenvolver as habilidades técnicas e pedagógicas necessárias aos estudante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Instrument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Quest 1: dados demográficos de um modo a descrever os participantes em relação aos seus hábitos tecnológico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Quest 2: obter as percepções dos estudantes em relação à sua competência tecnológica ao começo e ao fim do curso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Diários: relatar a percepção sobre o desenvolvimento da competência tecnológic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Resultad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14200" y="1213920"/>
            <a:ext cx="8715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Resultado 1: o caráter educacional da tecnologia em sala de aula: o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s participantes sentiam que o uso da tecnologia em sala de aula deveria ser bem preparado para realmente ser educacional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Resultado 2: troca de papéis de aprendizes de professor : o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s participantes geralmente expressavam atitudes positivas em relação aos novos papéis de aprendiz e de professor na sala de aula quando a tecnologia estava sendo usada. Sentiram que se exigia mais autonomia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Resultado 3: preocupações em relação a integração da tecnologias em salas de aula: 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falta de equipamento, perigos de usar a Internet e de usar o corretor de texto, et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Resultad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Resultado 4: confiança em suas competências para integração da tecnologia: 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muitos os professores indicaram que tinham desenvolvido as competências básicas tecnológicas, mas comentaram que não se sentiam prontos para integrar a tecnologia em suas salas de aula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Resultado 5: falta de preparação e para a integração da tecnologia: 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muitos participantes comentaram a falta de treinamento tecnológico apropriado em seu programa de quatro anos de curs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Discussã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85480" y="1213920"/>
            <a:ext cx="8643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Confirmou-se que os professores em pré-serviço não se sentiam competentes para usar a tecnologia ao começo do curso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Eles sentiam que sua competência técnica e epistemológica a estava mal desenvolvida enquanto que a sua competência e informacional e social era vista mais positivament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Explicação: quando questionados, a grande maioria dos estudantes disseram usar a Internet e e-mail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Esse uso da tecnologia para a comunicação e para a busca de informação na Internet parece ter desenvolvido nos participantes uma facilidade para usar o computador e mais confiança em relação a essas competênci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Breve revisão da literatur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85840" y="1571400"/>
            <a:ext cx="85723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Ncate (2004): o desenvolvimento de habilidades computacionais básicas tem sido incorporado em vários cursos tecnológicos de formação de professore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Chapelle e Hegelheimer (2004) reconhecem a necessidade de que os professores estejam familiarizados com uma variedade de informação relativas a computação básica, 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hardware, softwares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 e operações de laboratório para tomar decisões conscientes (</a:t>
            </a:r>
            <a:r>
              <a:rPr b="0" i="1" lang="pt-BR" sz="2600" spc="-1" strike="noStrike">
                <a:solidFill>
                  <a:srgbClr val="000000"/>
                </a:solidFill>
                <a:latin typeface="Constantia"/>
              </a:rPr>
              <a:t>informed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) sobre o uso do CA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4296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pt-BR" sz="5400" spc="-1" strike="noStrike">
                <a:solidFill>
                  <a:srgbClr val="04617b"/>
                </a:solidFill>
                <a:latin typeface="Calibri"/>
              </a:rPr>
              <a:t>Discussão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28760" y="1213920"/>
            <a:ext cx="7858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Nenhum dos participantes contrariou o fato de que a tecnologia pode ser usada como uma ferramenta para motivar os estudantes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Muitos professores questionavam o propósito de usar a tecnologia, não convencidos completamente de que tecnologia poderia ser usada para aprender uma língua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Retângulo de cantos arredondados 4"/>
          <p:cNvSpPr/>
          <p:nvPr/>
        </p:nvSpPr>
        <p:spPr>
          <a:xfrm>
            <a:off x="285840" y="4349880"/>
            <a:ext cx="8572320" cy="1285920"/>
          </a:xfrm>
          <a:prstGeom prst="roundRect">
            <a:avLst>
              <a:gd name="adj" fmla="val 16667"/>
            </a:avLst>
          </a:prstGeom>
          <a:solidFill>
            <a:srgbClr val="c8e3fb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CaixaDeTexto 5"/>
          <p:cNvSpPr/>
          <p:nvPr/>
        </p:nvSpPr>
        <p:spPr>
          <a:xfrm>
            <a:off x="500040" y="4349880"/>
            <a:ext cx="814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No geral, os estudantes expressaram confiança em sua competência tecnológica, mesmo não sentindo que estavam prontos para integrar tecnologia em sala de aula, devido à falta de treinamento durante o seu programa de formação para ensi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4617b"/>
                </a:solidFill>
                <a:latin typeface="Calibri"/>
              </a:rPr>
              <a:t>Conclusã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85480" y="1428480"/>
            <a:ext cx="8643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Revisou-se o programa de formação de professores e a tecnologia foi integrada por meio do programa e em dois modos diferen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Todos estudantes  deveriam ter um curso durante seu primeiro semestre para aprender técnicas básicas computacionais necessárias para os seus estudos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nstantia"/>
              </a:rPr>
              <a:t>A tecnologia foi integrada ao programa o por meio de discussões em fórun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Os autores acreditam que, para tornar a tecnologia integrada em salas de aula de maneira apropriada, </a:t>
            </a:r>
            <a:r>
              <a:rPr b="0" i="1" lang="pt-BR" sz="2400" spc="-1" strike="noStrike">
                <a:solidFill>
                  <a:srgbClr val="000000"/>
                </a:solidFill>
                <a:latin typeface="Constantia"/>
              </a:rPr>
              <a:t>os programas de formação de professores devem ter um forte componente tecnológico, com mais treinamento e mais ocasiões para usar a tecnologia e para praticar a integração da tecnologia 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nas aulas de língu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500" spc="-1" strike="noStrike">
                <a:solidFill>
                  <a:srgbClr val="04617b"/>
                </a:solidFill>
                <a:latin typeface="Calibri"/>
              </a:rPr>
              <a:t>Por que devemos nos preocupar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28760" y="1143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Há uma lacuna na formação tecnológica do professor, que seria a falta a que formação do professor para poder utilizá-la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Clark e Gorski (2001): observaram que um dos problemas predominantes é a falta de habilidade para identificar quando não usar a tecnologia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Northup e Little (1996): a tecnologia instrucional não pode ser tratada como somente uma parte do programa de formação, mas deve ser contínua, de modo a garantir o sucess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Senso de intimidação: prevalece ainda entre vários usuários da tecnologia. Professores que não estão acostumados ao utilizar a tecnologia frequentemente reagem negativamente às situações que requerem fazê-lo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A utilização de CALL requer conhecimento íntimo e abrangente sobre a tecnologia com foco pedagógico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Jones (2001): “dirigir o processo em CALL” -&gt; há  a necessidade crescente de preparar os professores para que possam tomar decisões sobre usar o CALL mais apropriadament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Davies e Williamson (1998): deve-se abordar o desenvolvimento não em termos de “o que o computador pode fazer”, mas sim em “o que um ser humano pode fazer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O estudo possui três componentes distint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nstantia"/>
              </a:rPr>
              <a:t>mapeamento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: 32 questões respondidas coletadas por meio de uma interface baseada na web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nstantia"/>
              </a:rPr>
              <a:t>focus group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: sessão de discussão intitulada "o que nós podemos fazer para melhor preparar os profissionais do CALL?" Um fórum de discussão online foi criado também para estender o diálogo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just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nstantia"/>
              </a:rPr>
              <a:t>entrevistas</a:t>
            </a:r>
            <a:r>
              <a:rPr b="0" lang="pt-BR" sz="2400" spc="-1" strike="noStrike">
                <a:solidFill>
                  <a:srgbClr val="000000"/>
                </a:solidFill>
                <a:latin typeface="Constantia"/>
              </a:rPr>
              <a:t>: 3 indivíduos foram escolhidos para representar 3 programas TESOL de diferentes regiões dos EU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4617b"/>
                </a:solidFill>
                <a:latin typeface="Calibri"/>
              </a:rPr>
              <a:t>Metodolog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4617b"/>
                </a:solidFill>
                <a:latin typeface="Calibri"/>
              </a:rPr>
              <a:t>Resultados do mapeament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Os resultados revelam uma insatisfação geral com treinamento de CALL e também lacunas em relação a esses programas. Muitos confiam em fontes alternativas de informação para sua preparação e outros estavam engajados em treinamentos formais à parte dos programas de preparação como professor de língua de modo a compensar essa deficiênci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Alguns participantes mencionaram que haviam se graduado antes do CALL estar vigorando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Muitos se consideravam aut0-treinados em CALL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nstantia"/>
              </a:rPr>
              <a:t>Os autor menciona que é difícil determinar um relacionamento de causa e efeito exato, mas a falta de preparação formal e a confiança nas fontes alternativas definitivamente coexistem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14:53:53Z</dcterms:created>
  <dc:creator>Andressa</dc:creator>
  <dc:description/>
  <dc:language>en-US</dc:language>
  <cp:lastModifiedBy>Andressa</cp:lastModifiedBy>
  <dcterms:modified xsi:type="dcterms:W3CDTF">2010-06-22T19:34:10Z</dcterms:modified>
  <cp:revision>81</cp:revision>
  <dc:subject/>
  <dc:title>Contextos Virtuais na Formação de Professores</dc:title>
</cp:coreProperties>
</file>